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6ADC-5599-4481-8838-74DE0942C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D685B22-4034-44DE-92E2-B8A3C77680F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2F2F-780C-4F30-8129-1E57B91A0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2040-E998-414C-A70F-E92B61F4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DE4C-3E18-4243-911F-2000E74F0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67A0-B2AA-4410-8352-27E5A269F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1092-7F01-4D1B-86FD-E94B70AAA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D1EE-AF4B-4D4E-AA10-18AFB4C4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5952-83B4-4089-8A07-FB924093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D227-F8B9-4791-952D-91A7B460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5633-3991-4C07-B776-94B370D0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B337-D549-4D54-9079-7581403D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4EA4-3983-4E15-B58F-2C35C03C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9FB0-9B3B-407F-88D5-017C4B5A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ED51-B5F0-4F62-96F0-42AE0FD5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F12B-D0F7-4DA7-8DCE-B537A2BD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C650-338B-4A12-99C2-23996A84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68A0-7458-4322-9FE5-BAFF0E8B9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6D78-D628-4F53-B10F-BBBFD9CD8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DDA89-2268-47A5-9B98-4F84A9D9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D202B-F4F1-433D-A3F9-0DAD54BF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A9C6A-F3D8-4F3A-9C83-637A777F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7B566-3240-4A14-9A3E-9178BE3B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B91E6-5754-4A2E-AD49-683CC985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F3C1-B238-47E3-A709-B2F7713D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7ACBB-4622-40D8-94E4-9FC6D4C0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D1998-526C-4778-84E3-630EB391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F6034-C18C-4616-AB11-283842B6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A9061-B19A-4936-86DB-FA5DA556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D2C71-7C2D-4FD1-B371-6C34B4FF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8227E-5169-47B5-8340-66C746AAC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70E50-AA89-4EF9-AFBB-479A5E2DA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56AD-0B89-4F74-9371-CF1F1907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8C84-2CAB-473B-841D-4F7965F1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97D3-CB2B-41E0-874D-B71071F3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E0E7-B4E0-4D33-9DD1-209ED789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7AD7-0F9A-4405-89FE-2B627663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DA0C-3D54-4CE0-B9A4-53714170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76F0-B968-4F74-8D57-45832B678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EFFD-289B-4293-BC39-7F1DEB196B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5DCA-7604-45DE-9983-D96992EDA0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at is an </a:t>
            </a:r>
            <a:r>
              <a:rPr b="1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electromagnet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0" t="11528" r="0" b="0"/>
          <a:stretch/>
        </p:blipFill>
        <p:spPr>
          <a:xfrm>
            <a:off x="533520" y="1295280"/>
            <a:ext cx="8153280" cy="541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w are electricity and magnetism related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2437920"/>
            <a:ext cx="56386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discovered at the sam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ic current produces a magnetic f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both have fields, poles, and doma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not rel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 is an electromagnet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48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basic idea behind an electromagnet is extremely simple: By running electric current through a wire, you can create a magnetic fiel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using this simple principle, you can create all sorts of things, including motors, solenoids, read/write heads for hard disks and tape drives,  and speak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943600" y="2895480"/>
            <a:ext cx="289548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omething to think about.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difference between a permanent magnet and an electromagne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manent magnets come from nature and are attracted to any metal which contains ir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omagnets are temporary, their magnetism is only present when electricity is applied to th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makes electromagnets very useful for different applic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atomy of an Electromagne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lectromagnet starts with a battery (or some other source of power) and a wire. What a battery produces i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lectr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ons collect at th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gativ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nd of the battery, and, if you let them, they will gladly flow to th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sitiv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nd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lectrons will flo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rom the negative side of the battery to the positive side as fast as they ca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small magnetic field is generat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the wire. It is this small magnetic field that is the basis of an electromagne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ypes of Electromagne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3962520" cy="37688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876920" y="2057400"/>
            <a:ext cx="35924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076960" cy="67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a solenoid? </a:t>
            </a:r>
            <a:br>
              <a:rPr sz="3600"/>
            </a:br>
            <a:br>
              <a:rPr sz="36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 copper wire is coiled, 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il of wi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al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olenoi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electricity passes through the coil, a magnetic field is produced.  (SEE THE PICTURE) The magnetic field set up a by a solenoid (coil of wire) carrying a current is very similar to the magnetic field of a bar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UsingEnM_Solenoid_sx7082b3"/>
          <p:cNvPicPr/>
          <p:nvPr/>
        </p:nvPicPr>
        <p:blipFill>
          <a:blip r:embed="rId1"/>
          <a:stretch/>
        </p:blipFill>
        <p:spPr>
          <a:xfrm>
            <a:off x="2133720" y="762120"/>
            <a:ext cx="4800600" cy="33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4952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228600" y="228600"/>
            <a:ext cx="8686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Electromagnet Field Lin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quick review..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manent magnets never loose their magnetism unless destroy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magnetism is created when electrons flow within an electrical circu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magnets can be used for a number of different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enoids are current carrying coils of wi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is a current carrying coil of wires called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2362320"/>
            <a:ext cx="5638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mag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eno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ltaic P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romagne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5:03:53Z</dcterms:created>
  <dc:creator>ccps5500</dc:creator>
  <dc:description/>
  <dc:language>en-US</dc:language>
  <cp:lastModifiedBy>ccps5500</cp:lastModifiedBy>
  <dcterms:modified xsi:type="dcterms:W3CDTF">2011-04-17T15:04:14Z</dcterms:modified>
  <cp:revision>1</cp:revision>
  <dc:subject/>
  <dc:title>What is an electromagnet?</dc:title>
</cp:coreProperties>
</file>